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A00-FE89-4887-8B31-C9CF4FC4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CA1-357F-454D-928A-60012E6D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7FB-D0E9-432D-9EBF-D9A4AB2C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1D6-E81E-4A04-9C17-8E3854DA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65A-315B-4A71-A6D8-EC6F6560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1C5-086C-42E1-804C-8B8A0687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7C7-2062-4BEC-A005-FCA16EC2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B47-98C0-4AA6-8025-9D9709BD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72C-A001-4DFE-8588-CB40A6ED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634-6725-45F0-A330-E9113AFA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E64-B2E3-4141-AB7F-4D48AAB3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237-38DF-45C6-943D-8C7E331D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09C8-5F59-4E81-9A85-BFC82E86C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432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alian insect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765000"/>
          <a:ext cx="8064360" cy="4253040"/>
        </p:xfrm>
        <a:graphic>
          <a:graphicData uri="http://schemas.openxmlformats.org/drawingml/2006/table">
            <a:tbl>
              <a:tblPr/>
              <a:tblGrid>
                <a:gridCol w="1224000"/>
                <a:gridCol w="865080"/>
                <a:gridCol w="863640"/>
                <a:gridCol w="863640"/>
                <a:gridCol w="865080"/>
                <a:gridCol w="1455840"/>
                <a:gridCol w="19270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c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wf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e t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ck in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f spi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0:27:33Z</dcterms:created>
  <dc:creator>dylan.iribarne</dc:creator>
  <dc:description/>
  <dc:language>en-US</dc:language>
  <cp:lastModifiedBy>dylan.iribarne</cp:lastModifiedBy>
  <dcterms:modified xsi:type="dcterms:W3CDTF">2009-06-16T00:34:17Z</dcterms:modified>
  <cp:revision>2</cp:revision>
  <dc:subject/>
  <dc:title>Australian insect survey</dc:title>
</cp:coreProperties>
</file>